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70FFE-DA09-4468-B3AB-4CD4293F3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se sentence starters to model facilitation of data analysis</a:t>
            </a: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7A54-99BA-4139-89E9-B7051EC9A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BB22E-EE4F-407B-834C-8B96400AF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C96E6-2EC2-4400-8DEE-72C83E65E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will debrief and people will need to share rationale</a:t>
            </a: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1177-6C48-4481-8712-03A1E4B62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peak about Edward Tufte and the book, Envisioning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0 minutes</a:t>
            </a: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1B7F4-077A-4A32-8D3A-1FCA9D5E6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e cohort from grade 9 applied to grade 10 applied to grade 11 MB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7C3F5-1A53-498F-BC10-E3A0971AB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9 EQAO data for one school along with mark distribution data; grade 9 marks organized by section with coding to indicate grade 6 EQAO score for math</a:t>
            </a: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33376-F7B1-4C11-B7FC-0085990E5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0CFD3-1AB9-4AFE-9EAD-356C09710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795BC-2AE6-4AD9-9E81-537C4F630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7AAB4-42DF-4D27-90E3-38E1BAC7D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7D66A-D971-40F5-BEC8-7C52B2335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BA91AA-A415-41A5-88C9-254BA4668E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9ECA9-9F2E-4889-B8BF-651223B35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89710-BA3C-4787-8B86-EDBD74167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C715F-26AD-4DC8-8167-37FE8B8CC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66F50-1796-4E6A-964F-54063B669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424A9-9C34-4D04-A21C-EC950772E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65C7A-0066-45DC-817C-C47729D22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2F75B-A41E-4CE5-BB3C-E531D230F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25C09-7033-4BFF-9C52-A5F6C4735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A642F-688D-40EF-94EE-540127A5E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A7174-8267-4680-9DC2-85F92FA57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25CCB4-B2BA-4C9A-9A26-8DCFFBB9A4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595D5C-CAC2-4321-A1B6-689387B286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CFF28-1991-4A23-B966-BD4B2A6A8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6B82E-B92E-4E8A-AE4B-8102990B5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F8D9B-256E-4661-BF56-8DDEFC3AB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396B3-33A6-445C-8906-0F62FDF88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901CE-7177-4057-B0C8-AF285788E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5974C-2C19-4D0B-B21F-E1685D5FC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A47DF-83A1-4F84-B843-05A772545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52FAC-BFEB-41FB-881A-129CD0F33AC6}"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BB4B-9F7E-4B04-9866-43C1F7CBEDF4}"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47628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2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versation Starters</a:t>
            </a:r>
            <a:endParaRPr b="0" lang="en-US" sz="4400" spc="-1" strike="noStrike">
              <a:solidFill>
                <a:srgbClr val="0d469b"/>
              </a:solidFill>
              <a:latin typeface="Arial"/>
            </a:endParaRPr>
          </a:p>
        </p:txBody>
      </p:sp>
      <p:pic>
        <p:nvPicPr>
          <p:cNvPr id="112" name="Picture 2" descr=""/>
          <p:cNvPicPr/>
          <p:nvPr/>
        </p:nvPicPr>
        <p:blipFill>
          <a:blip r:embed="rId1"/>
          <a:stretch/>
        </p:blipFill>
        <p:spPr>
          <a:xfrm>
            <a:off x="695160" y="1905120"/>
            <a:ext cx="7753680" cy="4724280"/>
          </a:xfrm>
          <a:prstGeom prst="rect">
            <a:avLst/>
          </a:prstGeom>
          <a:ln w="0">
            <a:noFill/>
          </a:ln>
        </p:spPr>
      </p:pic>
      <p:pic>
        <p:nvPicPr>
          <p:cNvPr id="113" name="Picture 3" descr=""/>
          <p:cNvPicPr/>
          <p:nvPr/>
        </p:nvPicPr>
        <p:blipFill>
          <a:blip r:embed="rId2"/>
          <a:stretch/>
        </p:blipFill>
        <p:spPr>
          <a:xfrm>
            <a:off x="228600" y="1905120"/>
            <a:ext cx="8325000" cy="261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xamining Data in TinkerPlots</a:t>
            </a:r>
            <a:endParaRPr b="0" lang="en-US" sz="4400" spc="-1" strike="noStrike">
              <a:solidFill>
                <a:srgbClr val="0d469b"/>
              </a:solidFill>
              <a:latin typeface="Arial"/>
            </a:endParaRPr>
          </a:p>
        </p:txBody>
      </p:sp>
      <p:sp>
        <p:nvSpPr>
          <p:cNvPr id="115"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orm four (or more) groups and examine the Tinkerplot data file (Board Grade 6 9 OSSLT v3.t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ree possible learning goals:</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Increase knowledge of </a:t>
            </a:r>
            <a:endParaRPr b="0" lang="en-US" sz="2800" spc="-1" strike="noStrike">
              <a:solidFill>
                <a:srgbClr val="ff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inkerplot software</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ata available and ways to blend files</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cess for engaging in data analy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e Conversation Star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Debrief</a:t>
            </a:r>
            <a:endParaRPr b="0" lang="en-US" sz="4400" spc="-1" strike="noStrike">
              <a:solidFill>
                <a:srgbClr val="0d469b"/>
              </a:solidFill>
              <a:latin typeface="Arial"/>
            </a:endParaRPr>
          </a:p>
        </p:txBody>
      </p:sp>
      <p:sp>
        <p:nvSpPr>
          <p:cNvPr id="117" name=""/>
          <p:cNvSpPr txBox="1"/>
          <p:nvPr/>
        </p:nvSpPr>
        <p:spPr>
          <a:xfrm>
            <a:off x="457200" y="1904760"/>
            <a:ext cx="8229600" cy="472428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engage teachers and administrators in such data analysis? How does it support goal setting?</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nabling structures, conditions and processes are required to engage these stakeholders in such dialogue?</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onversation starters were used?  Why were these effective [or not] during the facilitated convers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Journal</a:t>
            </a:r>
            <a:endParaRPr b="0" lang="en-US" sz="4400" spc="-1" strike="noStrike">
              <a:solidFill>
                <a:srgbClr val="0d469b"/>
              </a:solidFill>
              <a:latin typeface="Arial"/>
            </a:endParaRPr>
          </a:p>
        </p:txBody>
      </p:sp>
      <p:sp>
        <p:nvSpPr>
          <p:cNvPr id="119"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rticipants wi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enabling structures, conditions and processes for using data and setting goals with a focus on Equity Leadershi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roaden the depth and breadth of data used for decision ma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by engaging in courageous conversations focused on using data and setting goals using conversation star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98240"/>
            <a:ext cx="8077320" cy="134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d469b"/>
                </a:solidFill>
                <a:latin typeface="Arial"/>
              </a:rPr>
              <a:t>7 Principles of Fierce Conversations</a:t>
            </a:r>
            <a:endParaRPr b="0" lang="en-US" sz="4500" spc="-1" strike="noStrike">
              <a:solidFill>
                <a:srgbClr val="0d469b"/>
              </a:solidFill>
              <a:latin typeface="Arial"/>
            </a:endParaRPr>
          </a:p>
        </p:txBody>
      </p:sp>
      <p:sp>
        <p:nvSpPr>
          <p:cNvPr id="98"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01" name="PlaceHolder 2"/>
          <p:cNvSpPr>
            <a:spLocks noGrp="1"/>
          </p:cNvSpPr>
          <p:nvPr>
            <p:ph/>
          </p:nvPr>
        </p:nvSpPr>
        <p:spPr>
          <a:xfrm>
            <a:off x="3419280" y="5010120"/>
            <a:ext cx="4816440" cy="13716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Using Data, Engaging in Reflection &amp; Using a Broader Data Base for Decision Making and Monitoring</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oal Sort</a:t>
            </a:r>
            <a:endParaRPr b="0" lang="en-US" sz="4400" spc="-1" strike="noStrike">
              <a:solidFill>
                <a:srgbClr val="0d469b"/>
              </a:solidFill>
              <a:latin typeface="Arial"/>
            </a:endParaRPr>
          </a:p>
        </p:txBody>
      </p:sp>
      <p:sp>
        <p:nvSpPr>
          <p:cNvPr id="104"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 your Swim Buddy partner, sort the goals from most to least SM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fer to the questions provi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xamining Data</a:t>
            </a:r>
            <a:endParaRPr b="0" lang="en-US" sz="4400" spc="-1" strike="noStrike">
              <a:solidFill>
                <a:srgbClr val="0d469b"/>
              </a:solidFill>
              <a:latin typeface="Arial"/>
            </a:endParaRPr>
          </a:p>
        </p:txBody>
      </p:sp>
      <p:sp>
        <p:nvSpPr>
          <p:cNvPr id="10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ather with your Campfire tri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amine one of the two Metathink Docu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cord your questions, comments, and insights on the docu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chool Metathink Document A</a:t>
            </a:r>
            <a:endParaRPr b="0" lang="en-US" sz="4400" spc="-1" strike="noStrike">
              <a:solidFill>
                <a:srgbClr val="0d469b"/>
              </a:solidFill>
              <a:latin typeface="Arial"/>
            </a:endParaRPr>
          </a:p>
        </p:txBody>
      </p:sp>
      <p:pic>
        <p:nvPicPr>
          <p:cNvPr id="108" name="Picture 5" descr=""/>
          <p:cNvPicPr/>
          <p:nvPr/>
        </p:nvPicPr>
        <p:blipFill>
          <a:blip r:embed="rId1"/>
          <a:stretch/>
        </p:blipFill>
        <p:spPr>
          <a:xfrm>
            <a:off x="1214280" y="1857240"/>
            <a:ext cx="7000920" cy="595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chool Metathink Document B</a:t>
            </a:r>
            <a:endParaRPr b="0" lang="en-US" sz="4400" spc="-1" strike="noStrike">
              <a:solidFill>
                <a:srgbClr val="0d469b"/>
              </a:solidFill>
              <a:latin typeface="Arial"/>
            </a:endParaRPr>
          </a:p>
        </p:txBody>
      </p:sp>
      <p:pic>
        <p:nvPicPr>
          <p:cNvPr id="110" name="Picture 4" descr=""/>
          <p:cNvPicPr/>
          <p:nvPr/>
        </p:nvPicPr>
        <p:blipFill>
          <a:blip r:embed="rId1"/>
          <a:stretch/>
        </p:blipFill>
        <p:spPr>
          <a:xfrm>
            <a:off x="571680" y="1714680"/>
            <a:ext cx="7943760" cy="514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10-08-15T19:32:31Z</dcterms:modified>
  <cp:revision>151</cp:revision>
  <dc:subject/>
  <dc:title>Slide 1</dc:title>
</cp:coreProperties>
</file>